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DA9-F978-4A67-BA32-C8680991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2FE-9D46-4092-B806-C3F28A30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F8F-8045-40D5-B180-DBDF1AB1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939-D45E-45B0-8A2E-0A89AF5F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B26-ACC1-44C9-BC75-D070EF7F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254-1C77-4863-900B-31F6D3E3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709-4E5A-4CCA-BE35-099D7B2E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7A5-1EBB-43B3-8A5D-E5B2626C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33C-141E-47D3-9A3B-C189E79E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0FF-AF3B-416C-BA6D-0038AF3B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7B5-EBE3-4B65-B2B0-817BC9CA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525-76F6-48D1-B99A-57BB9985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05F9-A0A7-44F7-93EE-9354EBE1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3280" y="2060640"/>
            <a:ext cx="1297080" cy="360360"/>
          </a:xfrm>
          <a:custGeom>
            <a:avLst/>
            <a:gdLst/>
            <a:ahLst/>
            <a:rect l="l" t="t" r="r" b="b"/>
            <a:pathLst>
              <a:path w="817" h="272">
                <a:moveTo>
                  <a:pt x="817" y="0"/>
                </a:moveTo>
                <a:lnTo>
                  <a:pt x="817" y="136"/>
                </a:lnTo>
                <a:lnTo>
                  <a:pt x="0" y="136"/>
                </a:lnTo>
                <a:lnTo>
                  <a:pt x="0" y="2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2060640"/>
            <a:ext cx="4753080" cy="1655640"/>
          </a:xfrm>
          <a:custGeom>
            <a:avLst/>
            <a:gdLst/>
            <a:ahLst/>
            <a:rect l="l" t="t" r="r" b="b"/>
            <a:pathLst>
              <a:path w="2994" h="1043">
                <a:moveTo>
                  <a:pt x="0" y="1043"/>
                </a:moveTo>
                <a:lnTo>
                  <a:pt x="0" y="681"/>
                </a:lnTo>
                <a:lnTo>
                  <a:pt x="2994" y="681"/>
                </a:lnTo>
                <a:lnTo>
                  <a:pt x="299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060640"/>
            <a:ext cx="2592360" cy="863640"/>
          </a:xfrm>
          <a:custGeom>
            <a:avLst/>
            <a:gdLst/>
            <a:ahLst/>
            <a:rect l="l" t="t" r="r" b="b"/>
            <a:pathLst>
              <a:path w="1633" h="544">
                <a:moveTo>
                  <a:pt x="1633" y="0"/>
                </a:moveTo>
                <a:lnTo>
                  <a:pt x="1633" y="544"/>
                </a:lnTo>
                <a:lnTo>
                  <a:pt x="0" y="544"/>
                </a:lnTo>
                <a:lnTo>
                  <a:pt x="0" y="2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40360" y="3716280"/>
            <a:ext cx="431640" cy="36036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272" y="227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54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6436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378936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835280" y="2276640"/>
            <a:ext cx="2446200" cy="287280"/>
            <a:chOff x="1835280" y="2276640"/>
            <a:chExt cx="2446200" cy="287280"/>
          </a:xfrm>
        </p:grpSpPr>
        <p:sp>
          <p:nvSpPr>
            <p:cNvPr id="59" name=""/>
            <p:cNvSpPr/>
            <p:nvPr/>
          </p:nvSpPr>
          <p:spPr>
            <a:xfrm>
              <a:off x="183528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66920" y="227664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9892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3056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6256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9420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859280" y="2276640"/>
            <a:ext cx="2446200" cy="287280"/>
            <a:chOff x="4859280" y="2276640"/>
            <a:chExt cx="2446200" cy="287280"/>
          </a:xfrm>
        </p:grpSpPr>
        <p:sp>
          <p:nvSpPr>
            <p:cNvPr id="66" name=""/>
            <p:cNvSpPr/>
            <p:nvPr/>
          </p:nvSpPr>
          <p:spPr>
            <a:xfrm>
              <a:off x="485928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0920" y="227664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2292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5456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8656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820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835280" y="3573360"/>
            <a:ext cx="2446200" cy="287280"/>
            <a:chOff x="1835280" y="3573360"/>
            <a:chExt cx="2446200" cy="287280"/>
          </a:xfrm>
        </p:grpSpPr>
        <p:sp>
          <p:nvSpPr>
            <p:cNvPr id="73" name=""/>
            <p:cNvSpPr/>
            <p:nvPr/>
          </p:nvSpPr>
          <p:spPr>
            <a:xfrm>
              <a:off x="183528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66920" y="357336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9892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3056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6256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859280" y="3573360"/>
            <a:ext cx="2446200" cy="287280"/>
            <a:chOff x="4859280" y="3573360"/>
            <a:chExt cx="2446200" cy="287280"/>
          </a:xfrm>
        </p:grpSpPr>
        <p:sp>
          <p:nvSpPr>
            <p:cNvPr id="80" name=""/>
            <p:cNvSpPr/>
            <p:nvPr/>
          </p:nvSpPr>
          <p:spPr>
            <a:xfrm>
              <a:off x="485928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0920" y="357336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2292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5456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8656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820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88360" y="25653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2565360"/>
            <a:ext cx="4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256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2565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256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5640" y="2565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31560" y="32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3284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3284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3284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3284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5640" y="3284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564000" y="1916280"/>
            <a:ext cx="4174560" cy="287280"/>
            <a:chOff x="3564000" y="1916280"/>
            <a:chExt cx="4174560" cy="287280"/>
          </a:xfrm>
        </p:grpSpPr>
        <p:sp>
          <p:nvSpPr>
            <p:cNvPr id="99" name=""/>
            <p:cNvSpPr/>
            <p:nvPr/>
          </p:nvSpPr>
          <p:spPr>
            <a:xfrm>
              <a:off x="356400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9564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728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928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9092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22560" y="1916280"/>
              <a:ext cx="28728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600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8800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1964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164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783680" y="1628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62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1628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162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1628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75640" y="162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720" y="1628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5080" y="1628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77960" y="16286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1628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64000" y="3933720"/>
            <a:ext cx="4174560" cy="287280"/>
            <a:chOff x="3564000" y="3933720"/>
            <a:chExt cx="4174560" cy="287280"/>
          </a:xfrm>
        </p:grpSpPr>
        <p:sp>
          <p:nvSpPr>
            <p:cNvPr id="120" name=""/>
            <p:cNvSpPr/>
            <p:nvPr/>
          </p:nvSpPr>
          <p:spPr>
            <a:xfrm>
              <a:off x="356400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9564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728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5928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9092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22560" y="3933720"/>
              <a:ext cx="28728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600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8800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964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5164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783680" y="42210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42210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4221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42210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4221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5640" y="42210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5280" y="4221000"/>
            <a:ext cx="47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3280" y="4221000"/>
            <a:ext cx="47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R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4221000"/>
            <a:ext cx="86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RE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08720" y="4221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640" y="25653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640" y="38606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720" y="32846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2720" y="32846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03160" y="445464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4000" y="19890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83640" y="22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15280" y="22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83640" y="35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15280" y="35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604720" y="3500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604720" y="21337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22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2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5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35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280" y="3500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280" y="21337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2952000" y="353628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976000" y="353628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8369280" y="4202280"/>
            <a:ext cx="216000" cy="111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800 h 1117440"/>
              <a:gd name="textAreaBottom" fmla="*/ 1088640 h 111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630000" y="4201920"/>
            <a:ext cx="216000" cy="1117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160 h 1117800"/>
              <a:gd name="textAreaBottom" fmla="*/ 1088640 h 11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8920" y="4869000"/>
            <a:ext cx="173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PLAY 0 (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 LIGHT C-27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7840" y="4869000"/>
            <a:ext cx="17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PLAY 1 (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 LIGHT A-257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4200" y="4869000"/>
            <a:ext cx="173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PLAY 2 (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 LIGHT C-27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1800" y="4869000"/>
            <a:ext cx="17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PLAY 3 (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 LIGHT A-257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0720" y="6381720"/>
            <a:ext cx="435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en from the solder side (ATtiny2313 mounted on the solder side as we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276640"/>
            <a:ext cx="3744720" cy="1584000"/>
          </a:xfrm>
          <a:custGeom>
            <a:avLst/>
            <a:gdLst/>
            <a:ahLst/>
            <a:rect l="l" t="t" r="r" b="b"/>
            <a:pathLst>
              <a:path w="2359" h="998">
                <a:moveTo>
                  <a:pt x="0" y="0"/>
                </a:moveTo>
                <a:lnTo>
                  <a:pt x="0" y="227"/>
                </a:lnTo>
                <a:lnTo>
                  <a:pt x="181" y="331"/>
                </a:lnTo>
                <a:lnTo>
                  <a:pt x="181" y="590"/>
                </a:lnTo>
                <a:lnTo>
                  <a:pt x="0" y="694"/>
                </a:lnTo>
                <a:lnTo>
                  <a:pt x="0" y="998"/>
                </a:lnTo>
                <a:lnTo>
                  <a:pt x="2359" y="998"/>
                </a:lnTo>
                <a:lnTo>
                  <a:pt x="2359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2276640"/>
            <a:ext cx="2449440" cy="1584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276640"/>
            <a:ext cx="2449440" cy="1584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276640"/>
            <a:ext cx="790560" cy="1584000"/>
          </a:xfrm>
          <a:custGeom>
            <a:avLst/>
            <a:gdLst/>
            <a:ahLst/>
            <a:rect l="l" t="t" r="r" b="b"/>
            <a:pathLst>
              <a:path w="498" h="998">
                <a:moveTo>
                  <a:pt x="0" y="998"/>
                </a:moveTo>
                <a:lnTo>
                  <a:pt x="498" y="998"/>
                </a:lnTo>
                <a:lnTo>
                  <a:pt x="49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69696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7885080" y="2276640"/>
            <a:ext cx="790560" cy="1584000"/>
          </a:xfrm>
          <a:custGeom>
            <a:avLst/>
            <a:gdLst/>
            <a:ahLst/>
            <a:rect l="l" t="t" r="r" b="b"/>
            <a:pathLst>
              <a:path w="498" h="998">
                <a:moveTo>
                  <a:pt x="0" y="998"/>
                </a:moveTo>
                <a:lnTo>
                  <a:pt x="498" y="998"/>
                </a:lnTo>
                <a:lnTo>
                  <a:pt x="49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69696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5636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20000" y="359856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359856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359856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3598560"/>
            <a:ext cx="433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4861080" y="2276640"/>
            <a:ext cx="790560" cy="1584000"/>
          </a:xfrm>
          <a:custGeom>
            <a:avLst/>
            <a:gdLst/>
            <a:ahLst/>
            <a:rect l="l" t="t" r="r" b="b"/>
            <a:pathLst>
              <a:path w="498" h="998">
                <a:moveTo>
                  <a:pt x="0" y="998"/>
                </a:moveTo>
                <a:lnTo>
                  <a:pt x="498" y="998"/>
                </a:lnTo>
                <a:lnTo>
                  <a:pt x="49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69696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036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6400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359856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359856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359856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59856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359856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8364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1708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4400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1200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6400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744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9080" y="396072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6108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96072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96072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8000" y="396072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2000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80360" y="39607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8036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836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1672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0:29:32Z</dcterms:created>
  <dc:creator>Marco "Kiko" Carnut</dc:creator>
  <dc:description/>
  <dc:language>en-US</dc:language>
  <cp:lastModifiedBy>Marco "Kiko" Carnut</cp:lastModifiedBy>
  <dcterms:modified xsi:type="dcterms:W3CDTF">2007-06-09T19:01:55Z</dcterms:modified>
  <cp:revision>16</cp:revision>
  <dc:subject/>
  <dc:title>Slide 1</dc:title>
</cp:coreProperties>
</file>